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782-8BDF-4E5E-B37D-411B361C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C61-165B-42D3-988D-F0470510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35F-0BED-4320-9EBB-38EFDB0A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C65-069E-41F2-BBFF-D132DBC7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3E4-49E0-4772-9E73-0E15FE2B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FF5-5004-4EBB-889C-721F7BE4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005-1EC7-49E0-9EB2-8F675141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E69-2991-41E8-A76C-CE61EBE6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F2A-BDB1-4B6F-88C2-C5BFEE27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B44-EBD5-4D3A-A1B6-8C836844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666-7D22-4848-AB7F-ED02C65A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EA6-79D6-43BE-9460-091F42D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Zdancew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Software Security Summer School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7757-D290-465A-8D92-8A48A0A90951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E9E-682F-4D13-AB43-DC9E007083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 Hierarchy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3" name=""/>
          <p:cNvSpPr/>
          <p:nvPr/>
        </p:nvSpPr>
        <p:spPr>
          <a:xfrm>
            <a:off x="3326400" y="2973240"/>
            <a:ext cx="23385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9200" y="4038480"/>
            <a:ext cx="35668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ecure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33280" y="4038480"/>
            <a:ext cx="3044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9960" y="5105520"/>
            <a:ext cx="34876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124080" y="3505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350532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1447920"/>
            <a:ext cx="2590920" cy="1295280"/>
          </a:xfrm>
          <a:prstGeom prst="cloudCallout">
            <a:avLst>
              <a:gd name="adj1" fmla="val -14217"/>
              <a:gd name="adj2" fmla="val 197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Primordial Class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066-11A7-4550-95EA-3C8175E665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 Resolu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en loading the first class of an application, a new instance of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en loading the first class of an applet, a new instance of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e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java.lang.Class.ForNam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s directly called, the primordial class loader is used.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the request to load a class is triggered by a reference to it from an existing class, the class loader for the existing class is asked to load the clas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ceptions and special cases… (e.g. web browser may reuse applet loader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197-DA9B-48BC-93D6-F700882CAA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Java Polic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1523880"/>
            <a:ext cx="7767720" cy="3257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http://www.l33t-hax0rz.com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file://$JAVA_HOME/lib/ext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security.AllPermi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signedBy “trusted-company.com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net.SocketPermission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5600" y="4800600"/>
            <a:ext cx="5392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olicy information store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JAVA_HOME/lib/security/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USER_HOME/.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(or passed on command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FCB-415C-41B7-A8F2-B8FC6321A1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uste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7" name=""/>
          <p:cNvSpPr/>
          <p:nvPr/>
        </p:nvSpPr>
        <p:spPr>
          <a:xfrm>
            <a:off x="687240" y="1676520"/>
            <a:ext cx="7767720" cy="2527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String filename, String 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if (sm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filename,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(native code)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throw new SecurityExcep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240" y="4419720"/>
            <a:ext cx="7767720" cy="155412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ublic static void main(…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“/tmp/*”,“write,…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6960" y="121932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de in the System protec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960-531E-4D5B-88B4-700DCFC1D4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lien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2438280"/>
            <a:ext cx="7767720" cy="228420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class UntrustedApp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stevez/important.tex”, “kwijib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2480" y="137160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 code obtained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ttp://www.l33t-hax0rz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A77-F50A-48B3-A374-0846C9DA14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frames are annotated with their protection domains and any enabled privile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uring inspection, stack frames are searched from most to least recen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 if a frame belonging to someone not authorized for privilege is encountered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itstream Vera Sans"/>
              </a:rPr>
              <a:t>succeed</a:t>
            </a: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 if activated privilege is found in frame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FB8-FED5-40BB-967D-4769A1DFCC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51814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FF1-CBE1-402D-9E31-5005CA5FEA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89A-DF8D-4B0E-87D7-8525557090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E44-EBF6-4804-8D2C-DAA2E26C19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1F7-14F3-4DA8-93CD-3D22C2F4AC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bile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rn languages like Java and C# have been designed for Internet applications and extensible system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As, Cell Phones, Smart Cards, …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"/>
          <p:cNvSpPr/>
          <p:nvPr/>
        </p:nvSpPr>
        <p:spPr>
          <a:xfrm>
            <a:off x="2905200" y="4649760"/>
            <a:ext cx="3332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200" y="3963960"/>
            <a:ext cx="3332160" cy="5205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web browser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312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074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598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4332240" y="1258920"/>
            <a:ext cx="457200" cy="4648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AD3-58D7-49C2-8137-59DEAC160C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58128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9640" y="4921200"/>
            <a:ext cx="1825200" cy="520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Bitstream Vera Sans"/>
              </a:rPr>
              <a:t>Succe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160-15BD-4043-88C4-1340670EF9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stevez/important.tex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kwijib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23D-614E-4199-8F2D-0E9C988299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6095880" cy="106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…/important.txt”, “kwijibo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important.tx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write”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stevez/important.tex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kwijib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84320" y="3581280"/>
            <a:ext cx="801000" cy="520560"/>
          </a:xfrm>
          <a:prstGeom prst="rect">
            <a:avLst/>
          </a:prstGeom>
          <a:solidFill>
            <a:srgbClr val="ff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55A-F258-4D1D-B58A-1C6735303B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ossibiliti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ileWrit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method could enable the write permission itself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Potentially dangerous, should not base the file to write on data from the applet 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… </a:t>
            </a: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but no enforcement in Java (information flow would help here)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trusted piece of code could </a:t>
            </a: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disabl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 previously granted permiss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Terminate the stack inspection early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C0F-1DE3-4169-B409-4FA1796221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Algorith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1443960" y="1295280"/>
            <a:ext cx="675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heckPermission(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loop newest to oldest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each stack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local policy forbids access to T by class execut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tack frame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en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;  // allow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dis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end of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Netscape || …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MS IE4.0 || JDK 1.2 || …) 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A53-417A-4294-B6EB-EB0307DFBF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wo Implement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 demand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On a checkPermission invocation, actually crawl down the stack, checking on the way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Used in practice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agerly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Keep track of the current set of available permissions during execution (security-passing style Wallach &amp; Felten)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+ more apparent (could print current perms.)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Bitstream Ver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more expensive (checkPermission occurs infrequently)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C01-B512-44A8-80A0-10E877DED3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 seems appealing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Fine grained, flexible, configurable policies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Distinguishes between code of varying degrees of trust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How do we understand what the policy is?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Semantics tied to the operational behavior of the program (defined in terms of stacks!)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How do we compare implementations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Changing the program (e.g. optimizing it) may change the security policy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Policy is distributed throughout the software, and is not apparent from the program interfaces.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Is it any good?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873-47B4-4121-A292-72D2E516D6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Literatur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 Systematic Approach to Static Access Contro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rançois Pottier, Christian Skalka, Scott Smith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: Theory and Varia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édric Fournet and Andrew D. Gord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standing Java Stack Inspec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an S. Wallach and Edward W. Felte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Formalize Java Stack Inspection using ABLP logic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97D-A8A1-4DEB-A856-01CCDB54D3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izing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9AD-C80C-4E3A-8BA6-A76ACB931E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frames are annotated with their protection domains and any enabled privile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uring inspection, stack frames are searched from most to least recen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 if a frame belonging to someone not authorized for privilege is encountered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itstream Vera Sans"/>
              </a:rPr>
              <a:t>succeed</a:t>
            </a: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 if activated privilege is found in frame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713-599C-4641-97F7-2243DF5B71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et Security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 OS &amp; other valuable resourc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 no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crash browser or OS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execute “rm –rf /”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be able to exhaust resources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be able to access </a:t>
            </a: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some</a:t>
            </a: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 system resources (e.g. to display a picture)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be isolated from each other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nciples of least privileges and complete mediation appl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ABD-F027-4B74-99BE-1F96413101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Literatur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 Systematic Approach to Static Access Contro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rançois Pottier, Christian Skalka, Scott Smith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: Theory and Varia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édric Fournet and Andrew D. Gord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standing Java Stack Inspec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an S. Wallach and Edward W. Felte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Formalize Java Stack Inspection using ABLP logic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DE7-5447-4DAB-A516-7EF0F49C8D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P      Set of all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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P      Principals (sets of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                    permissions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ide the details of classloading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EDE-B11D-4E84-B548-477E658B25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,f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 els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351-5C68-4ABA-8E37-CE61E1ADEF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raming a Ter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ls the Classloader that marks the (unframed) code with its protection domain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R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f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enable p i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p then e else f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els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</a:t>
            </a:r>
            <a:r>
              <a:rPr b="0" lang="en-US" sz="24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 fail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3B3-0F30-4745-8A2D-2105449ECB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1" name=""/>
          <p:cNvSpPr/>
          <p:nvPr/>
        </p:nvSpPr>
        <p:spPr>
          <a:xfrm>
            <a:off x="732600" y="14479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ead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9400" y="4495680"/>
            <a:ext cx="80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&lt;f2 content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BB0-32A5-47AE-9AEA-7033DDA330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Ho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Ar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Tagged fr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BB1-9F23-4CF1-908F-711335CDFD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)   v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{v/x}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nable p in v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{v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fail]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fa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]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 Stack(E) </a:t>
            </a:r>
            <a:r>
              <a:rPr b="0" lang="en-US" sz="24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p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f]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Stack(E) </a:t>
            </a:r>
            <a:r>
              <a:rPr b="0" lang="en-US" sz="24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p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  iff   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4267080"/>
            <a:ext cx="2666880" cy="1143000"/>
          </a:xfrm>
          <a:prstGeom prst="wedgeRoundRectCallout">
            <a:avLst>
              <a:gd name="adj1" fmla="val -68037"/>
              <a:gd name="adj2" fmla="val -28194"/>
              <a:gd name="adj3" fmla="val 16667"/>
            </a:avLst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St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Insp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836-ACFA-494D-9194-311006F339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9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7240" y="320040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readfile “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CDA-A4BA-4108-ADF4-36FF8FE647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519-CA59-4946-B946-BDB0936FCA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5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AB2-C7A1-4E41-BEB3-A24E7C59FB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and C#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 Type System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Memory safety and jump safety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un-time checks fo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Array index bounds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Downcasts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Access controls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irtual Machine / JIT compila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Bytecode verification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Enforces encapsulation boundaries (e.g. private field)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arbage Collect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Eliminates memory management errors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brary suppor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Cryptography, authentication, …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209680"/>
            <a:ext cx="1981080" cy="990720"/>
          </a:xfrm>
          <a:prstGeom prst="wedgeRoundRectCallout">
            <a:avLst>
              <a:gd name="adj1" fmla="val -135337"/>
              <a:gd name="adj2" fmla="val 49837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These l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ECA-A991-4DB7-87C6-EF33A10D34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8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C18-2F44-470F-95D4-C7604EC46D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0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5400" y="38862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881-F803-466F-A41C-2AF29FC4051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3" name=""/>
          <p:cNvSpPr/>
          <p:nvPr/>
        </p:nvSpPr>
        <p:spPr>
          <a:xfrm>
            <a:off x="711720" y="13716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6800" y="4038480"/>
            <a:ext cx="675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 E’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CEF-AAF9-412C-BC42-8A1C5D29249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6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1D2-D7B6-4102-9A7B-A62E17D386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9" name=""/>
          <p:cNvSpPr/>
          <p:nvPr/>
        </p:nvSpPr>
        <p:spPr>
          <a:xfrm>
            <a:off x="1832400" y="1676520"/>
            <a:ext cx="61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</a:t>
            </a:r>
            <a:r>
              <a:rPr b="0" lang="en-US" sz="2800" spc="-1" strike="noStrike">
                <a:solidFill>
                  <a:srgbClr val="808080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158840" y="2508120"/>
            <a:ext cx="2590920" cy="947160"/>
            <a:chOff x="1158840" y="2508120"/>
            <a:chExt cx="2590920" cy="947160"/>
          </a:xfrm>
        </p:grpSpPr>
        <p:sp>
          <p:nvSpPr>
            <p:cNvPr id="211" name=""/>
            <p:cNvSpPr/>
            <p:nvPr/>
          </p:nvSpPr>
          <p:spPr>
            <a:xfrm>
              <a:off x="1247400" y="2508120"/>
              <a:ext cx="2373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214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219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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4CA-42DF-46C6-9504-AACD442B73F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23" name=""/>
          <p:cNvSpPr/>
          <p:nvPr/>
        </p:nvSpPr>
        <p:spPr>
          <a:xfrm>
            <a:off x="1797120" y="1676520"/>
            <a:ext cx="71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</a:t>
            </a:r>
            <a:r>
              <a:rPr b="0" lang="en-US" sz="2800" spc="-1" strike="noStrike">
                <a:solidFill>
                  <a:srgbClr val="808080"/>
                </a:solidFill>
                <a:latin typeface="TeX Math Symbols"/>
                <a:ea typeface="TeX Math Symbols"/>
              </a:rPr>
              <a:t></a:t>
            </a: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225" name=""/>
            <p:cNvSpPr/>
            <p:nvPr/>
          </p:nvSpPr>
          <p:spPr>
            <a:xfrm>
              <a:off x="1723680" y="2514600"/>
              <a:ext cx="133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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6320" y="2743200"/>
            <a:ext cx="33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066680" y="3808440"/>
            <a:ext cx="3124440" cy="947160"/>
            <a:chOff x="1066680" y="3808440"/>
            <a:chExt cx="3124440" cy="947160"/>
          </a:xfrm>
        </p:grpSpPr>
        <p:sp>
          <p:nvSpPr>
            <p:cNvPr id="229" name=""/>
            <p:cNvSpPr/>
            <p:nvPr/>
          </p:nvSpPr>
          <p:spPr>
            <a:xfrm>
              <a:off x="1122480" y="3808440"/>
              <a:ext cx="3007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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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5240" y="556272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* Enables should occur only in trust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959-59B4-482A-93CB-4C55E953E37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4" name=""/>
          <p:cNvSpPr/>
          <p:nvPr/>
        </p:nvSpPr>
        <p:spPr>
          <a:xfrm>
            <a:off x="696960" y="1752480"/>
            <a:ext cx="7762680" cy="3080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iff  there exists o such that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ay that   e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8BB-38A2-4588-A3A9-94EAA57BA5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Inequal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6" name=""/>
          <p:cNvSpPr/>
          <p:nvPr/>
        </p:nvSpPr>
        <p:spPr>
          <a:xfrm>
            <a:off x="460080" y="1447920"/>
            <a:ext cx="8223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x = e in e’  =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’)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oop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note:   loop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(x 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aim: f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=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103120" y="4176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199360" y="2351160"/>
            <a:ext cx="262080" cy="3189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28C-92A8-4B4B-B3E9-D59A3D877DE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0" name=""/>
          <p:cNvSpPr/>
          <p:nvPr/>
        </p:nvSpPr>
        <p:spPr>
          <a:xfrm>
            <a:off x="732240" y="1214280"/>
            <a:ext cx="8130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f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)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D61-1214-4F94-B2E1-424D37183FE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2" name=""/>
          <p:cNvSpPr/>
          <p:nvPr/>
        </p:nvSpPr>
        <p:spPr>
          <a:xfrm>
            <a:off x="708120" y="1263600"/>
            <a:ext cx="823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[g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loop els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400-6582-4765-A910-F62FD386B18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ccess Control for Apple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at level of granular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Applets can touch some parts of the file system but not others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Applets can make network connections to some locations but not others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fferent code has different levels of trustworthine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www.l33t-hax0rs.com vs. www.java.sun.com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rusted code can call un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e.g. to ask an applet to repaint its window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ntrusted code can call 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itstream Vera Sans"/>
              </a:rPr>
              <a:t>e.g. the paint routine may load a font</a:t>
            </a:r>
            <a:endParaRPr b="0" lang="en-US" sz="2000" spc="-1" strike="noStrike">
              <a:solidFill>
                <a:srgbClr val="80808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How is the access control policy specified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521-B3CB-47E9-BCDF-7722B4FD34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Applic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4" name=""/>
          <p:cNvSpPr/>
          <p:nvPr/>
        </p:nvSpPr>
        <p:spPr>
          <a:xfrm>
            <a:off x="1438920" y="1752480"/>
            <a:ext cx="6264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iminate redundant  anno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3120" y="4260960"/>
            <a:ext cx="65559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rease stack inspection co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est p then (enable p in e) els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7D4-691A-45CF-BC41-6D21622A9B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xiomatic Equivalenc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7" name=""/>
          <p:cNvSpPr/>
          <p:nvPr/>
        </p:nvSpPr>
        <p:spPr>
          <a:xfrm>
            <a:off x="647280" y="1289160"/>
            <a:ext cx="75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n give a sound set of equa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aracterize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     Example axi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26360" y="2286000"/>
            <a:ext cx="7015320" cy="381240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s a congruence (preserved by contex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)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{v/x}     (beta 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fv(v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(enable q in 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enable q in (enable p in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p}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any, man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5715000"/>
            <a:ext cx="222552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lies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C3E-E35D-40B1-9A62-68C0FDCE2C0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dinary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266688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il-call eliminated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56920" y="4494240"/>
            <a:ext cx="44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Not sound in gener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But OK in special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D9E-112C-4F2D-BABB-A7643920AB4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5" name=""/>
          <p:cNvSpPr/>
          <p:nvPr/>
        </p:nvSpPr>
        <p:spPr>
          <a:xfrm>
            <a:off x="2502360" y="1447920"/>
            <a:ext cx="413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uppose R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. 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{v/x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6240" y="4724280"/>
            <a:ext cx="739152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n particular, code within a protection domain can safely make tail calls to other code in that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10A-3FC0-46A9-A407-7332C93562D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8" name=""/>
          <p:cNvSpPr/>
          <p:nvPr/>
        </p:nvSpPr>
        <p:spPr>
          <a:xfrm>
            <a:off x="543240" y="1295280"/>
            <a:ext cx="827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main = System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.(h ok ok)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=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 System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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c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c (readFile s)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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leak = Applet</a:t>
            </a:r>
            <a:r>
              <a:rPr b="0" lang="en-US" sz="2800" spc="-1" strike="noStrike">
                <a:solidFill>
                  <a:srgbClr val="cc6600"/>
                </a:solidFill>
                <a:latin typeface="TeX Math Symbols"/>
                <a:ea typeface="TeX Math Symbols"/>
              </a:rPr>
              <a:t>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s.output s</a:t>
            </a:r>
            <a:r>
              <a:rPr b="0" lang="en-US" sz="2800" spc="-1" strike="noStrike">
                <a:solidFill>
                  <a:srgbClr val="cc6600"/>
                </a:solidFill>
                <a:latin typeface="TeX Math Symbols"/>
                <a:ea typeface="TeX Math Symbols"/>
              </a:rPr>
              <a:t>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2FC-2A36-431F-ABA2-F2F9CB3D197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60" name=""/>
          <p:cNvSpPr/>
          <p:nvPr/>
        </p:nvSpPr>
        <p:spPr>
          <a:xfrm>
            <a:off x="-31680" y="1376280"/>
            <a:ext cx="92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System{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}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&lt;f2 contents&gt;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output &lt;f2 contents&gt;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EB2-2A09-463F-BC0F-93095A4557D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Next Tim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tic analysis for stack inspec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Type system for stack inspection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nections to information-flow analysi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3BC-8E46-4E27-B1D8-B020AA4631A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: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ranslation &amp; Static Analysi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C1A-164D-408F-9457-7314D110786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es for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nt to do static checking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itstream Vera Sans"/>
              </a:rPr>
              <a:t>sec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d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Statically detect security failures.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Eliminate redundant checks.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Example of nonstandard type system for enforcing security properties.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 system based on work by Pottier, Skalka, and Smith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“</a:t>
            </a: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A Systematic Approach to Static Access Control”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plain the type system by taking a detour through “security-passing” style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See Wallach’s &amp; Felten’s 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AB2-CFC1-4F34-B831-C67C6C93D14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,f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 els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let x = e in f            local decl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estrict the use of “fail” in the source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925-4AF3-4AA0-B5AF-94513357422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utlin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 Security Model                 </a:t>
            </a:r>
            <a:r>
              <a:rPr b="0" lang="en-US" sz="1800" spc="-1" strike="noStrike">
                <a:solidFill>
                  <a:srgbClr val="808080"/>
                </a:solidFill>
                <a:latin typeface="Bitstream Vera Sans"/>
              </a:rPr>
              <a:t>(C# similar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inspec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Concrete examples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mantics from a PL perspectiv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Formalizing stack inspection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Reasoning about programs that use stack inspection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Type systems for stack inspection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iscussion &amp; Related work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Relate stack inspection to information flow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FF7-8E00-4ABA-A5B7-881C7D9A72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dding Static Check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New expression form: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      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        check p then e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Operationally, equivalent t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test p then e else fai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But, the type system will ensure that the check always succeed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CF8-5ECE-4BDC-A6ED-2BAFD121576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curity-passing Sty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asic idea: Convert the “stack-crawling” form of stack inspection into a “permission-set passing style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Compute the set of current permissions at any point in the code.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Make the set of permissions explicit as an extra parameter to functions (hence “security-passing style)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rget language is untyped lambda calculus with a primitive datatype of se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343-0D97-4C9E-A90F-1F599F0ECBA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YAFOSI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819520" y="5181480"/>
            <a:ext cx="3504960" cy="977760"/>
            <a:chOff x="2819520" y="5181480"/>
            <a:chExt cx="3504960" cy="977760"/>
          </a:xfrm>
        </p:grpSpPr>
        <p:sp>
          <p:nvSpPr>
            <p:cNvPr id="275" name=""/>
            <p:cNvSpPr/>
            <p:nvPr/>
          </p:nvSpPr>
          <p:spPr>
            <a:xfrm>
              <a:off x="4116960" y="563868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3240" y="5181480"/>
              <a:ext cx="323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; P; x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T    p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19520" y="5715000"/>
              <a:ext cx="350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621600" y="342900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; S; x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3560" y="1219320"/>
            <a:ext cx="869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Yet another formalization of stack insp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mpute the set T of permissions gran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x given starting with static permissions R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nd dynamic permissions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720" y="4038480"/>
            <a:ext cx="775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mputes the answer bottom to top (i.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e order the stack was buil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3505320"/>
            <a:ext cx="6172200" cy="1066680"/>
          </a:xfrm>
          <a:prstGeom prst="wedgeRoundRectCallout">
            <a:avLst>
              <a:gd name="adj1" fmla="val -29680"/>
              <a:gd name="adj2" fmla="val 116069"/>
              <a:gd name="adj3" fmla="val 16667"/>
            </a:avLst>
          </a:prstGeom>
          <a:solidFill>
            <a:srgbClr val="ffff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Change to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;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;x</a:t>
            </a:r>
            <a:r>
              <a:rPr b="1" lang="en-US" sz="28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for the “least privileges” 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92E-F81B-48FF-8F4A-6CFA153DDD5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“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ager”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83" name=""/>
          <p:cNvSpPr/>
          <p:nvPr/>
        </p:nvSpPr>
        <p:spPr>
          <a:xfrm>
            <a:off x="1296000" y="167652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; S; .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2971800"/>
            <a:ext cx="3429000" cy="1068120"/>
            <a:chOff x="533520" y="2971800"/>
            <a:chExt cx="3429000" cy="1068120"/>
          </a:xfrm>
        </p:grpSpPr>
        <p:sp>
          <p:nvSpPr>
            <p:cNvPr id="285" name=""/>
            <p:cNvSpPr/>
            <p:nvPr/>
          </p:nvSpPr>
          <p:spPr>
            <a:xfrm>
              <a:off x="1138680" y="3519360"/>
              <a:ext cx="237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R; S; R’.x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8760" y="2971800"/>
              <a:ext cx="289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R’; 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1" lang="en-US" sz="2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R’; x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520" y="35053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80880" y="4616280"/>
            <a:ext cx="4114800" cy="1068120"/>
            <a:chOff x="380880" y="4616280"/>
            <a:chExt cx="4114800" cy="1068120"/>
          </a:xfrm>
        </p:grpSpPr>
        <p:sp>
          <p:nvSpPr>
            <p:cNvPr id="289" name=""/>
            <p:cNvSpPr/>
            <p:nvPr/>
          </p:nvSpPr>
          <p:spPr>
            <a:xfrm>
              <a:off x="652320" y="5163840"/>
              <a:ext cx="372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R; S; enable(p).x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1000" y="4616280"/>
              <a:ext cx="377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R; 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({p}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R); x </a:t>
              </a:r>
              <a:r>
                <a:rPr b="0" lang="en-US" sz="2800" spc="-1" strike="noStrike">
                  <a:solidFill>
                    <a:srgbClr val="000000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880" y="5149440"/>
              <a:ext cx="41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7040" y="167652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Bottom of th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4160" y="3200400"/>
            <a:ext cx="35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New prot.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7520" y="492120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nabled per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C9A-3C0A-43CA-A8D5-7C4C9B80392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Inspection Correspondenc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96" name=""/>
          <p:cNvSpPr/>
          <p:nvPr/>
        </p:nvSpPr>
        <p:spPr>
          <a:xfrm>
            <a:off x="614160" y="2057400"/>
            <a:ext cx="791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Lemma: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)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p in the first formul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ff Stack(E)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p in the eager form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2E0-9D8B-47C8-865A-257BD49B88C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arget Language: </a:t>
            </a:r>
            <a:r>
              <a:rPr b="1" lang="en-US" sz="5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,f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let x = e in f            local dec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if p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e then e else f         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member test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et expr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e ::=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                         perm. set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se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unio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se 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se                                    intersectio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B14-13A8-49FA-8C22-74C7FA717B0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ranslation: </a:t>
            </a:r>
            <a:r>
              <a:rPr b="1" lang="en-US" sz="5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c to </a:t>
            </a:r>
            <a:r>
              <a:rPr b="1" lang="en-US" sz="5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t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0" name=""/>
          <p:cNvSpPr/>
          <p:nvPr/>
        </p:nvSpPr>
        <p:spPr>
          <a:xfrm>
            <a:off x="186480" y="1371600"/>
            <a:ext cx="876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= “translation of e in domain 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 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x = e in 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  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x 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 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({p}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R) i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’{e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R’ i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heck r the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if r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 the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el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r then e1 else e2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if r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 the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1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el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2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Top level translation:  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   = 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P{P/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3C7-1F0A-4A4D-B264-3B9C344A336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ansla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2" name=""/>
          <p:cNvSpPr/>
          <p:nvPr/>
        </p:nvSpPr>
        <p:spPr>
          <a:xfrm>
            <a:off x="407880" y="1447920"/>
            <a:ext cx="745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= {“f1, “f2”, “f3”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= {“f1”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 = System{enable “f1” in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System{check “f1” then write x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kwijibo”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215-7623-4780-A337-110F3B2EEFC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ansla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h]]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73040" y="1371600"/>
            <a:ext cx="6559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P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enable “f1”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({“f1”}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{“f1”, “f2”, “f3”})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Applet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“f1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if “f1”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 then write x else fail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“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kwijibo”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539-4D31-4B54-A188-BF8B2890CD8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“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dministrative” Evalua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7" name=""/>
          <p:cNvSpPr/>
          <p:nvPr/>
        </p:nvSpPr>
        <p:spPr>
          <a:xfrm>
            <a:off x="884520" y="1523880"/>
            <a:ext cx="771336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1)    let s = e in f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f{R/s}      if 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2)    E[e]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E[e’]        if   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3124080"/>
            <a:ext cx="693432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For example: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[[h]] </a:t>
            </a:r>
            <a:r>
              <a:rPr b="0" lang="en-US" sz="2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baseline="-25000">
                <a:solidFill>
                  <a:srgbClr val="336699"/>
                </a:solidFill>
                <a:latin typeface="Bitstream Vera Sans"/>
              </a:rPr>
              <a:t>a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r>
              <a:rPr b="0" i="1" lang="en-US" sz="2800" spc="-1" strike="noStrike">
                <a:solidFill>
                  <a:srgbClr val="808080"/>
                </a:solidFill>
                <a:latin typeface="Bitstream Vera Sans"/>
              </a:rPr>
              <a:t>(* System  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if “f1”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 then write x else ()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kwijibo” {“f1”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42D-709E-42C1-8CC7-1D73D26EDC8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 Model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133360"/>
            <a:ext cx="2057400" cy="28551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55160"/>
              <a:gd name="textAreaBottom" fmla="*/ 2754720 h 2855160"/>
            </a:gdLst>
            <a:ahLst/>
            <a:rect l="textAreaLeft" t="textAreaTop" r="textAreaRight" b="textAreaBottom"/>
            <a:pathLst>
              <a:path w="21600" h="29974">
                <a:moveTo>
                  <a:pt x="3600" y="0"/>
                </a:moveTo>
                <a:arcTo wR="3600" hR="3600" stAng="16200000" swAng="-5400000"/>
                <a:lnTo>
                  <a:pt x="0" y="26374"/>
                </a:lnTo>
                <a:arcTo wR="3600" hR="3600" stAng="10800000" swAng="-5400000"/>
                <a:lnTo>
                  <a:pt x="18000" y="2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a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b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c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e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50120" y="255276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50120" y="369108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25063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6439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925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787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62320" y="2743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86000" y="289512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58128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3048120"/>
            <a:ext cx="14479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39625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981080"/>
            <a:ext cx="5333760" cy="3048120"/>
          </a:xfrm>
          <a:prstGeom prst="rect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83160" y="1523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ecurit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720" y="1523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V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6440" y="5867280"/>
            <a:ext cx="85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Bitstream Vera Sans"/>
              </a:rPr>
              <a:t>http://java.sun.com/j2se/1.4.2/docs/guide/security/spec/security-specTOC.fm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800" y="4648320"/>
            <a:ext cx="234180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lassloa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curity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A4A-0CEB-4D6E-88D1-F6139639C9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Lemma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uppose R; S; Stack(E)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n there exist E’ and R’ such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(source) 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e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]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{S/s}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E’[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]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{T/s}]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roof (sketch):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By induction on structure of E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35E-0EBF-4EDC-8092-C26CFA5D41C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ranslation Correctness (1)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f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e’  then there is an f such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[[e]]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f  and  [[e’]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urthermore, if 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is a beta step, then [[e]]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f includes at least one beta step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roof (sketch):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Induction on the evaluation step taken.  Uses the stack inspection lemma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EE7-F65A-44F9-8F53-221A6B35404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ranslation Correct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eorem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f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v  then [[e]]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[[v]]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f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fail then [[e]]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fai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urthermore, if e diverges, so does [[e]]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roof (sketch):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se the lemma on the previous slide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CB2-2AFE-4B0C-98E3-F89F2718A8B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epping Back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ve two formulations of stack inspection: “original” and “eager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ve a translation to a language that manipulates sets of permissions explicitl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Includes the “administrative” reductions that just compute sets of permissions.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Similar computations can be done statically!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76B-5F90-40EF-9224-D78953CF504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ager stack inspection judgmen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tically track the current protection domai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tically track the currently enabled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ermission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se the expression instead of Stack(E)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Deriving a Type Syste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19" name=""/>
          <p:cNvSpPr/>
          <p:nvPr/>
        </p:nvSpPr>
        <p:spPr>
          <a:xfrm>
            <a:off x="2983680" y="2514600"/>
            <a:ext cx="31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; S; Stack(E)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EAD-8C20-43E5-A05C-1BE75BFD11E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ing Judgmen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21" name=""/>
          <p:cNvSpPr/>
          <p:nvPr/>
        </p:nvSpPr>
        <p:spPr>
          <a:xfrm>
            <a:off x="3484800" y="259092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04920" y="1371600"/>
            <a:ext cx="7772400" cy="4191120"/>
            <a:chOff x="304920" y="1371600"/>
            <a:chExt cx="7772400" cy="4191120"/>
          </a:xfrm>
        </p:grpSpPr>
        <p:sp>
          <p:nvSpPr>
            <p:cNvPr id="323" name=""/>
            <p:cNvSpPr/>
            <p:nvPr/>
          </p:nvSpPr>
          <p:spPr>
            <a:xfrm>
              <a:off x="304920" y="3429000"/>
              <a:ext cx="2666880" cy="1447920"/>
            </a:xfrm>
            <a:prstGeom prst="wedgeRoundRectCallout">
              <a:avLst>
                <a:gd name="adj1" fmla="val 66902"/>
                <a:gd name="adj2" fmla="val -89254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Current protection doma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38560" y="4114800"/>
              <a:ext cx="2666880" cy="1447920"/>
            </a:xfrm>
            <a:prstGeom prst="wedgeRoundRectCallout">
              <a:avLst>
                <a:gd name="adj1" fmla="val -22976"/>
                <a:gd name="adj2" fmla="val -118638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Current permission s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1371600"/>
              <a:ext cx="2666880" cy="990720"/>
            </a:xfrm>
            <a:prstGeom prst="wedgeRoundRectCallout">
              <a:avLst>
                <a:gd name="adj1" fmla="val 39763"/>
                <a:gd name="adj2" fmla="val 73078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Variable contex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48520" y="3429000"/>
              <a:ext cx="1676160" cy="685800"/>
            </a:xfrm>
            <a:prstGeom prst="wedgeRoundRectCallout">
              <a:avLst>
                <a:gd name="adj1" fmla="val -114013"/>
                <a:gd name="adj2" fmla="val -100925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Ter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48520" y="1981080"/>
              <a:ext cx="1828800" cy="609840"/>
            </a:xfrm>
            <a:prstGeom prst="wedgeRoundRectCallout">
              <a:avLst>
                <a:gd name="adj1" fmla="val -80643"/>
                <a:gd name="adj2" fmla="val 63023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DBC-9BFD-4AAA-A34D-AE2711A5A7D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 of typ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ly interesting (non administrative) change during compilation was for functions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]]R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ource type:    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rget type:     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itstream Vera San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rgument, is always a set, so we “specialize” the type t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 –{S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9A7-F17B-45E8-A2A1-6422933FFF2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 ::=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t, string, …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ase typ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 –{S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un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EFC-BC11-468B-B6D9-86DB5F71D5B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imple Typing Rul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33" name=""/>
          <p:cNvSpPr/>
          <p:nvPr/>
        </p:nvSpPr>
        <p:spPr>
          <a:xfrm>
            <a:off x="4640400" y="1828800"/>
            <a:ext cx="27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x :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714680" y="3976560"/>
            <a:ext cx="5715000" cy="1206360"/>
            <a:chOff x="1714680" y="3976560"/>
            <a:chExt cx="5715000" cy="1206360"/>
          </a:xfrm>
        </p:grpSpPr>
        <p:sp>
          <p:nvSpPr>
            <p:cNvPr id="335" name=""/>
            <p:cNvSpPr/>
            <p:nvPr/>
          </p:nvSpPr>
          <p:spPr>
            <a:xfrm>
              <a:off x="1932120" y="4662360"/>
              <a:ext cx="51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336699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x.e  :  t1 –{S’}</a:t>
              </a:r>
              <a:r>
                <a:rPr b="0" lang="en-US" sz="2800" spc="-1" strike="noStrike">
                  <a:solidFill>
                    <a:srgbClr val="336699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t2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86320" y="3976560"/>
              <a:ext cx="36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’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,x:t1 </a:t>
              </a:r>
              <a:r>
                <a:rPr b="0" lang="en-US" sz="2800" spc="-1" strike="noStrike">
                  <a:solidFill>
                    <a:srgbClr val="336699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e  :  t2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14680" y="4584600"/>
              <a:ext cx="571500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068840" y="33526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bstr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4080" y="1828800"/>
            <a:ext cx="19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F2F-C843-4632-8135-7DCFAE167B4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re Simple Typing Rul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038480" y="1371600"/>
            <a:ext cx="4077000" cy="1739880"/>
            <a:chOff x="4038480" y="1371600"/>
            <a:chExt cx="4077000" cy="1739880"/>
          </a:xfrm>
        </p:grpSpPr>
        <p:sp>
          <p:nvSpPr>
            <p:cNvPr id="342" name=""/>
            <p:cNvSpPr/>
            <p:nvPr/>
          </p:nvSpPr>
          <p:spPr>
            <a:xfrm>
              <a:off x="4111920" y="2590920"/>
              <a:ext cx="25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336699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e f : t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09760" y="1371600"/>
              <a:ext cx="397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336699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e  :  t –{S}</a:t>
              </a:r>
              <a:r>
                <a:rPr b="0" lang="en-US" sz="2800" spc="-1" strike="noStrike">
                  <a:solidFill>
                    <a:srgbClr val="336699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t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2513160"/>
              <a:ext cx="407700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11560" y="1905120"/>
              <a:ext cx="230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336699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f  : 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067040" y="205740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038480" y="3733920"/>
            <a:ext cx="4648320" cy="1739520"/>
            <a:chOff x="4038480" y="3733920"/>
            <a:chExt cx="4648320" cy="1739520"/>
          </a:xfrm>
        </p:grpSpPr>
        <p:sp>
          <p:nvSpPr>
            <p:cNvPr id="348" name=""/>
            <p:cNvSpPr/>
            <p:nvPr/>
          </p:nvSpPr>
          <p:spPr>
            <a:xfrm>
              <a:off x="4113720" y="4952880"/>
              <a:ext cx="415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336699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let x = e in f :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1200" y="3733920"/>
              <a:ext cx="226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336699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e : 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38480" y="4875120"/>
              <a:ext cx="464832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0840" y="4267080"/>
              <a:ext cx="297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,x:u </a:t>
              </a:r>
              <a:r>
                <a:rPr b="0" lang="en-US" sz="2800" spc="-1" strike="noStrike">
                  <a:solidFill>
                    <a:srgbClr val="336699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f  : 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145160" y="403848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1CC-7101-426D-943C-46E545DEE2D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Kinds of Permis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.security.Permission  Clas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perm = new java.io.FilePermission("/tmp/abc","read"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AllPermission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Security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Unresolved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awt.AW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Fi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Serializab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eflect.Reflec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untimePermiss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N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Sock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62B-A2C9-481C-AAA6-956AE0A8A8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ing Rules for Enab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4" name=""/>
          <p:cNvSpPr/>
          <p:nvPr/>
        </p:nvSpPr>
        <p:spPr>
          <a:xfrm>
            <a:off x="686520" y="182880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nable f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73840" y="2286000"/>
            <a:ext cx="42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enable p in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74200" y="160020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e  : t       p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2208240"/>
            <a:ext cx="4952880" cy="144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9040" y="373392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nable succ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45040" y="5105520"/>
            <a:ext cx="42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enable p in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42520" y="4419720"/>
            <a:ext cx="49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e  : t       p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71600" y="5027760"/>
            <a:ext cx="5881680" cy="144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D28-2420-4FE3-94E5-D9C8CFCF3B6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Rule for Check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63" name=""/>
          <p:cNvSpPr/>
          <p:nvPr/>
        </p:nvSpPr>
        <p:spPr>
          <a:xfrm>
            <a:off x="1629360" y="4662360"/>
            <a:ext cx="565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 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check p then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94240" y="4052880"/>
            <a:ext cx="33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 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e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57360" y="4584600"/>
            <a:ext cx="5881680" cy="180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7280" y="1676520"/>
            <a:ext cx="62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Note that this typing rule requ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at the permission p is st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known to be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B91-811D-41CC-99AB-B2763911ED4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Rule for Tes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68" name=""/>
          <p:cNvSpPr/>
          <p:nvPr/>
        </p:nvSpPr>
        <p:spPr>
          <a:xfrm>
            <a:off x="1373400" y="4662360"/>
            <a:ext cx="51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test p then e else f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35200" y="4038480"/>
            <a:ext cx="29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-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f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4572000"/>
            <a:ext cx="7162560" cy="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21160" y="3429000"/>
            <a:ext cx="33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 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e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4560" y="1600200"/>
            <a:ext cx="745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heck the first branch under as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at p is present, check the else branch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 assumption that p is abs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E4E-35A3-4083-BDE4-0A3B29ED525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Rule for Protection Domai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74" name=""/>
          <p:cNvSpPr/>
          <p:nvPr/>
        </p:nvSpPr>
        <p:spPr>
          <a:xfrm>
            <a:off x="3056040" y="4052880"/>
            <a:ext cx="28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S’{e}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38760" y="3352680"/>
            <a:ext cx="29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’;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’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e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14680" y="3962520"/>
            <a:ext cx="3733560" cy="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67000" y="1523880"/>
            <a:ext cx="620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ntersect the permissions in the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tic protection domain with the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urrent permission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944-5AC0-4E27-A3F4-ED16C469E2F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Weakening (Subsumption)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209680" y="2666880"/>
            <a:ext cx="4724640" cy="1282680"/>
            <a:chOff x="2209680" y="2666880"/>
            <a:chExt cx="4724640" cy="1282680"/>
          </a:xfrm>
        </p:grpSpPr>
        <p:sp>
          <p:nvSpPr>
            <p:cNvPr id="380" name=""/>
            <p:cNvSpPr/>
            <p:nvPr/>
          </p:nvSpPr>
          <p:spPr>
            <a:xfrm>
              <a:off x="3427920" y="3429000"/>
              <a:ext cx="217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336699"/>
                  </a:solidFill>
                  <a:latin typeface="TeX Math Symbols"/>
                  <a:ea typeface="TeX Math Symbols"/>
                </a:rPr>
                <a:t>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e :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2651400" y="2666880"/>
              <a:ext cx="3870000" cy="520560"/>
              <a:chOff x="2651400" y="2666880"/>
              <a:chExt cx="3870000" cy="520560"/>
            </a:xfrm>
          </p:grpSpPr>
          <p:sp>
            <p:nvSpPr>
              <p:cNvPr id="382" name=""/>
              <p:cNvSpPr/>
              <p:nvPr/>
            </p:nvSpPr>
            <p:spPr>
              <a:xfrm>
                <a:off x="2651400" y="2666880"/>
                <a:ext cx="228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R;S’;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Symbol"/>
                    <a:ea typeface="Symbol"/>
                  </a:rPr>
                  <a:t>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 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TeX Math Symbols"/>
                    <a:ea typeface="TeX Math Symbols"/>
                  </a:rPr>
                  <a:t>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 e : 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382000" y="2666880"/>
                <a:ext cx="1139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S’</a:t>
                </a:r>
                <a:r>
                  <a:rPr b="1" lang="en-US" sz="2800" spc="-1" strike="noStrike">
                    <a:solidFill>
                      <a:srgbClr val="336699"/>
                    </a:solidFill>
                    <a:latin typeface="Symbol"/>
                    <a:ea typeface="Symbol"/>
                  </a:rPr>
                  <a:t>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 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209680" y="3276360"/>
              <a:ext cx="472464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875880" y="1600200"/>
            <a:ext cx="73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t is always safe to “forget” per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7E8-D2C7-4B7A-BBA8-DCEA8D967A0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e Safe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ore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;P;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e : t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n either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v or 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iver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particular: e never fails.  (i.e. check always succeeds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eservation &amp; Progres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01D-A539-45F2-B384-221B7FF2055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Goo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89" name=""/>
          <p:cNvSpPr/>
          <p:nvPr/>
        </p:nvSpPr>
        <p:spPr>
          <a:xfrm>
            <a:off x="844560" y="1523880"/>
            <a:ext cx="745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 = System{enable “f1” in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System{check “f1” then write x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kwijibo”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en   P;S;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h : unit    for any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C19-A881-4642-8F9C-4D9FAD17BD9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Ba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91" name=""/>
          <p:cNvSpPr/>
          <p:nvPr/>
        </p:nvSpPr>
        <p:spPr>
          <a:xfrm>
            <a:off x="844560" y="1523880"/>
            <a:ext cx="745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g = System{enable “f1” in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System{check “f2” then write x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kwijibo”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en   R;S;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g : t   is not derivable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for any R,S, and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00600" y="2286000"/>
            <a:ext cx="685800" cy="609480"/>
          </a:xfrm>
          <a:prstGeom prst="ellipse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920-9E6E-4C4B-AA96-64C8703A92D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tic vs. Dynamic Check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94" name=""/>
          <p:cNvSpPr/>
          <p:nvPr/>
        </p:nvSpPr>
        <p:spPr>
          <a:xfrm>
            <a:off x="989640" y="259092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eX Math Symbols"/>
                <a:ea typeface="TeX Math Symbols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check p in x  :  int –{p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5000" y="1371600"/>
            <a:ext cx="610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alling this function requires the </a:t>
            </a:r>
            <a:br>
              <a:rPr sz="2800"/>
            </a:br>
            <a:r>
              <a:rPr b="0" i="1" lang="en-US" sz="2800" spc="-1" strike="noStrike">
                <a:solidFill>
                  <a:srgbClr val="336699"/>
                </a:solidFill>
                <a:latin typeface="Bitstream Vera Sans"/>
              </a:rPr>
              <a:t>static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permission 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89120" y="3505320"/>
            <a:ext cx="7767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nly way to call it (assuming initial perms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re empty) is to put it in the scope of a</a:t>
            </a:r>
            <a:br>
              <a:rPr sz="2800"/>
            </a:br>
            <a:r>
              <a:rPr b="0" i="1" lang="en-US" sz="2800" spc="-1" strike="noStrike">
                <a:solidFill>
                  <a:srgbClr val="336699"/>
                </a:solidFill>
                <a:latin typeface="Bitstream Vera Sans"/>
              </a:rPr>
              <a:t>dynamic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est p then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…can call it here…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se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…may not call it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BA7-764B-4428-8F94-A730E027625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pressive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s type system is very simpl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No subtyping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No polymorphism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Not algorithmic 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Hard to do inference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n add all of these features…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e François’ paper for a nice example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Uses Rémy’s row types to describe the sets of permission.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Uses HM(X) – Hindley Milner with constraints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Also shows how to derive a type system for the source language from the translation!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59E-2C1E-4EB6-BD6E-41664BC36A8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de Trustworthi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rotection domain the code is in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Source (e.g. local or applet)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Digital signatures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C# calls this “evidence based”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ermissions a protection domain has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Configurable – administrator file or command line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forced by the classload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EAD-CE03-473D-92D2-2851B3433D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Discuss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blem: Applets returning closures that circumvent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ssible solution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Values of the form: R{v}  (i.e. keep track of the protection domain of the source)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Similarly, one could have closures capture their current security context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Integrity analysis (i.e. where data comes from)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net &amp; Gordon prove some properties of strengthened versions of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BF9-4C09-406A-A14E-00F3958ABB1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++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inspection enforces a form of integrity polic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n combine stack inspection with information-flow policies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Banerjee &amp; Naumann – Using Access Control for Secure Information Flow in a Java-like Language  (CSFW’03)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Tse &amp; Zdancewic – Run-time Principals in Information-flow Type Systems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Bitstream Vera Sans"/>
              </a:rPr>
              <a:t>(IEEE S&amp;P’04)</a:t>
            </a:r>
            <a:endParaRPr b="0" lang="en-US" sz="2400" spc="-1" strike="noStrike">
              <a:solidFill>
                <a:srgbClr val="80808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003-B9EB-4DBB-8A10-13415D0262C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Steve Zdancewic</cp:lastModifiedBy>
  <dcterms:modified xsi:type="dcterms:W3CDTF">2004-06-22T22:35:20Z</dcterms:modified>
  <cp:revision>49</cp:revision>
  <dc:subject/>
  <dc:title>Observational Determinism for  Concurrent Program Security</dc:title>
</cp:coreProperties>
</file>